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085-8D4E-4B0E-981D-076AFE5E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6716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3000"/>
            <a:ext cx="616716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2B3-1613-4953-88BF-2C01972D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800" y="213372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300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800" y="528300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262-9E5A-40FA-A768-9F402548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198576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8200" y="2133720"/>
            <a:ext cx="198576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3680" y="2133720"/>
            <a:ext cx="198576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3000"/>
            <a:ext cx="198576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8200" y="5283000"/>
            <a:ext cx="198576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3680" y="5283000"/>
            <a:ext cx="198576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9F1-BA05-4AD0-9DDA-EB6A8FD6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720"/>
            <a:ext cx="6167160" cy="60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E1C-61CB-4DB7-ABDA-74E97636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616716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A41-ADA3-4E9D-9F24-E3DCB43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0924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800" y="2133720"/>
            <a:ext cx="300924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65B-720B-4AE6-AC9B-DF8D3BD7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BE3-AAF5-4A5B-A0BE-12A12C72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840"/>
            <a:ext cx="6167160" cy="70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9CF-A3E9-4279-AE3C-60F36D60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800" y="2133720"/>
            <a:ext cx="300924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300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A6B-9102-4D9E-9414-C4C1C9F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0924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800" y="213372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800" y="528300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5CA-4662-40E1-B02D-7B9E8B00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800" y="2133720"/>
            <a:ext cx="300924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3000"/>
            <a:ext cx="6167160" cy="287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C6C-15F0-4155-8781-D8E673D5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671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720"/>
            <a:ext cx="616716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080"/>
            <a:ext cx="1595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2880" y="8326080"/>
            <a:ext cx="21668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080"/>
            <a:ext cx="1595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E42C6-0820-412E-A407-497C6F52DDC9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-5754600" y="3659040"/>
            <a:ext cx="6858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8840" y="773280"/>
          <a:ext cx="6545160" cy="1199880"/>
        </p:xfrm>
        <a:graphic>
          <a:graphicData uri="http://schemas.openxmlformats.org/drawingml/2006/table">
            <a:tbl>
              <a:tblPr/>
              <a:tblGrid>
                <a:gridCol w="2663640"/>
                <a:gridCol w="1657440"/>
                <a:gridCol w="2224080"/>
              </a:tblGrid>
              <a:tr h="395280">
                <a:tc gridSpan="3">
                  <a:txBody>
                    <a:bodyPr lIns="90000" rIns="90000" tIns="1126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ktthema : Wir formen aus T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600">
                <a:tc>
                  <a:txBody>
                    <a:bodyPr lIns="90000" rIns="90000" tIns="1051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ktangebot von: T.Tarabr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00 -13: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51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lassenstufen:</a:t>
                      </a:r>
                      <a:br>
                        <a:rPr sz="1600"/>
                      </a:b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 -7-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82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sten/Material: 4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20"/>
          <p:cNvSpPr/>
          <p:nvPr/>
        </p:nvSpPr>
        <p:spPr>
          <a:xfrm>
            <a:off x="345960" y="2104920"/>
            <a:ext cx="6220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r formen aus Ton vierschiedene Gegenstände. Wir werden dabei viel Spaß haben - jeder kann etwas neues erschaffen. Es macht Freude, kreativ zu sein. Mit Ton kannst du alles mögliche formen  - die Möglichkeiten sind unbegrenz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1" descr=""/>
          <p:cNvPicPr/>
          <p:nvPr/>
        </p:nvPicPr>
        <p:blipFill>
          <a:blip r:embed="rId1"/>
          <a:stretch/>
        </p:blipFill>
        <p:spPr>
          <a:xfrm>
            <a:off x="431640" y="7199280"/>
            <a:ext cx="2341800" cy="15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"/>
          <p:cNvPicPr/>
          <p:nvPr/>
        </p:nvPicPr>
        <p:blipFill>
          <a:blip r:embed="rId2"/>
          <a:stretch/>
        </p:blipFill>
        <p:spPr>
          <a:xfrm>
            <a:off x="2781360" y="5435640"/>
            <a:ext cx="1620720" cy="216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"/>
          <p:cNvPicPr/>
          <p:nvPr/>
        </p:nvPicPr>
        <p:blipFill>
          <a:blip r:embed="rId3"/>
          <a:stretch/>
        </p:blipFill>
        <p:spPr>
          <a:xfrm>
            <a:off x="4444920" y="7199280"/>
            <a:ext cx="2212920" cy="1657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"/>
          <p:cNvPicPr/>
          <p:nvPr/>
        </p:nvPicPr>
        <p:blipFill>
          <a:blip r:embed="rId4"/>
          <a:stretch/>
        </p:blipFill>
        <p:spPr>
          <a:xfrm>
            <a:off x="258840" y="3203640"/>
            <a:ext cx="2333520" cy="306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"/>
          <p:cNvPicPr/>
          <p:nvPr/>
        </p:nvPicPr>
        <p:blipFill>
          <a:blip r:embed="rId5"/>
          <a:stretch/>
        </p:blipFill>
        <p:spPr>
          <a:xfrm>
            <a:off x="4319640" y="3527280"/>
            <a:ext cx="2127240" cy="1725840"/>
          </a:xfrm>
          <a:prstGeom prst="rect">
            <a:avLst/>
          </a:prstGeom>
          <a:ln w="0">
            <a:noFill/>
          </a:ln>
        </p:spPr>
      </p:pic>
      <p:sp>
        <p:nvSpPr>
          <p:cNvPr id="49" name="Textfeld 1"/>
          <p:cNvSpPr/>
          <p:nvPr/>
        </p:nvSpPr>
        <p:spPr>
          <a:xfrm>
            <a:off x="5079960" y="4680"/>
            <a:ext cx="157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P 5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15:17:11Z</dcterms:created>
  <dc:creator>Tatiana Tarabrina</dc:creator>
  <dc:description/>
  <dc:language>en-US</dc:language>
  <cp:lastModifiedBy>A TESTL</cp:lastModifiedBy>
  <dcterms:modified xsi:type="dcterms:W3CDTF">2017-03-23T11:18:41Z</dcterms:modified>
  <cp:revision>6</cp:revision>
  <dc:subject/>
  <dc:title>Слайд 1</dc:title>
</cp:coreProperties>
</file>